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07A-6C23-4F9A-9CE6-C49AADCB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E50-F189-4170-B7D8-FE0436E4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6A285-9FEC-46DA-8CAC-131E5306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C370E-75FB-4514-94A1-2D6B0219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BED93-3E84-48B1-8249-83E69A0D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3BF64-3051-40D4-8BFE-51DA0A81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02368-630C-454A-B3D1-7929F929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0B9EB-3660-4FDF-9249-147DBB32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B44A8-DB8A-4AC0-8AA6-B4288DC8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27128-3C05-4A98-9988-51AE884E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D9FED-CF39-4AEC-892E-D661C2AC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908CC-BEF0-4391-A1BF-93A63B70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0EF-7F33-4B52-8AB9-41D3DB60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D528F-F9A6-4232-8DD7-838159CA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354D8-2D33-4309-9806-A30ED65D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3ABCD-5303-473D-AB36-A48D06CF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38381-2BB8-4AA9-B5DD-40838600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A3D72-4117-4F3A-8F3F-1D4CB14F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0D483-6270-4EFB-9985-1718B58B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D6287-68F8-431D-B650-42265B6C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55894-6DBF-401A-8D68-346992DF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6AE42-27CA-44DF-AE48-3FC83BC7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66895-BDAB-458D-8E67-F07C0355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9DA-6532-433A-B569-D48FCEBC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C43C3-D985-4FB9-8D1C-11687E8A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1B07C-6FA8-40F0-BFCE-1BCB3ED3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3B2F8-936E-4550-919F-9B6D688E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02360-FDE4-4A45-BBCC-44E0341B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956C4-EE85-47FD-857A-FD6A0396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AAFC3-B3D7-4517-AD07-0DBB7535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92BD9-C2D1-4176-8D66-64026265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E036C-D254-4AA1-84C8-919CD72C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2DF10-B17F-4B2D-826F-5703E853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149BC-080D-4E60-981E-0F8DCB22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43D2-E23E-4908-9537-DA3EF5D0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282C4-7EFC-4C90-9034-0F21ABF6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41D61-2526-4C86-8696-0278AADE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BD72B-A272-4CAA-B051-83EA8352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9BC08-86E8-4F33-8B03-065344DE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C9835-9873-48C6-A023-1DB3BD87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47052-3995-4162-B53F-E4F56307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A3EB7-BA34-4765-91AF-3A67D3FD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591EB-E05C-4C0A-BC87-29B0D3A7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CA110-5A3F-446A-A0C9-3ED4E78F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0FAA3-B7CC-47FB-96D1-52E19912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F160-25E2-49B2-9DE7-6A7DA0FD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029A3-853B-43B7-A134-9E3375AC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A910D-9085-4363-BE67-09792B8D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1E022-05DB-459C-A1EE-F1DD2616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BEC49-9CC4-4490-A63E-95BE3539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6DD17-BB32-4A2E-8840-2E7F86CF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4DEDB-D4E9-4B62-8E69-747BDC2E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A081E-B894-4394-92A3-8E7402EA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BC386-A977-456C-BB1A-C17E569C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4031F-4DDF-4386-92B3-71EB669D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659B6-29F8-43C9-AC5F-CC4F39ED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1FCB-6116-4B4D-8D6F-7EB49236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D6AE5-FC83-48A4-AC09-35C591D7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5BBC0-961B-4B21-8F78-633CE695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8EB63-2844-486C-AEC0-320A27B3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8C0F5-1BD0-4104-AE56-6A752FE2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9816A-C584-49C1-A70C-B89F581A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BC995-22B2-4010-9F6D-E93EA970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505E4-5CE2-4C55-A7D5-EE722D9C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24312-9D34-4D20-BDA2-BE2FD112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E8BA5-0A57-4762-AF42-08FCD539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446ED-2B59-4FD6-B7DD-AB7F029C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9FC1-F7C6-4D11-B825-393793B5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E8018-D301-46CA-921E-8FD7B687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FD2CA-7216-4A76-8925-34221822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3DF4C-A8D5-4BE0-AEF1-596CE7F7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103B9-0137-462F-AABE-F89C240A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77685-FE3B-4F50-8CFB-87AF26F6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88054-3BF3-4C2C-960C-862CFC11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F8DDC-C3F7-4108-820F-8BAC734D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1A313-FF1A-4E8C-8D3F-A02CEB21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29491-F5DA-4043-860C-6E6B42AE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EE5A2E-1C90-46FC-BBE2-89CDA7E3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50BE-E745-4906-9EC0-69FDA53B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48A86-3532-4C35-9E47-775DD2D4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6D3919-CA32-4E76-9F3B-F32B477C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20997-2809-4C3E-A44B-7FD2E3F1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701DA-A085-4219-9D94-2EC40549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29621-8726-430C-B46D-4CA8989E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418564-4754-4CD3-A049-293C619E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56010-080F-4C1E-9125-1D331281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9CC64-411E-422A-B3DB-A2217A46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9BBCD-C705-4F08-879E-5CD99237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10602-0392-4F11-9E77-B2F1E9A3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5730-5962-4979-95D4-3BFA377C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B5811-E3D1-4F26-9128-6A93C38B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66F556-7CA9-44C1-B3C7-50412144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8EE51-EA15-4D47-AF1F-E6DC9ED5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D68D4-A84F-46BB-A6C4-37204DB5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E73146-D1DF-4839-B6B8-FF1F1AC5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E3C5A-3427-49CB-92BE-11562FE5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4D4D9-32FC-45E7-9199-B5E3A298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BFB6D3-39D0-4A59-AE10-B60F769D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A739A-3AC8-41D7-AE5F-2926338B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2EDB7-8830-4B99-A70F-99EE524C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8C9B-5E78-42A3-BCB3-3DAFF3D8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3EDEE-D29A-450A-A134-A932D53C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CAA49E-8497-4698-84DD-1BA1A280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222F7-85A0-4164-B286-34972019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CF694-A362-4B55-8380-E5DF05CC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484B65-0DFD-4D61-99D5-67677D29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6FCFB-F79E-4614-9453-F6161FA8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23151-3F18-4954-B189-F6A7B3BB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352A7-670C-46C6-B0D0-708745D0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02B95D-AC2F-4608-B625-E80A2560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ED98CE-4118-4EA5-BB47-EC395038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955-C96C-4F64-A414-92B11B83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94BA-48D5-4CA6-BC5F-75E6B4F2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D2045-BABC-411A-854A-6DC291F2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DB05B-FC8E-4CF7-BEFA-0FC4D1DF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D5AB4E-D8B6-49CD-9EB8-D585CCAE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B65D0-3145-4C7E-A863-933413FD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B5963-CE63-4C58-B7D0-FE42394A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BB131E-FB9E-43BD-BF5C-20749885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E9DD81-5E58-410B-BE47-DE940714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59043-B912-4DF0-A3B3-800DD49D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3A927-0A7A-4E2A-8449-5EE14C18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8AE354-2A99-4D9B-8437-29589BD5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B664-9092-4B1B-8CAC-6329893C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9CCE73-C9D7-406B-BCB7-8843F89C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351B16-B574-408F-900E-455CA702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623B5F-C4D2-4041-8B91-577360E8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64D46-9458-47B8-ACB8-9863C77F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A06523-2121-4615-B0C9-DFB767F9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857D91-5677-48CC-88A9-38A76F39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8D377C-B132-4F56-A1F1-C119A829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65E51-248E-40F7-B2E9-217A62CE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88BC2F-12E8-4663-9638-44857EE9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45F579-FB06-4B00-B5A1-47CE333E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D3A1-9979-45DA-8A1B-7ADA9B23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405095-AFF6-44A1-91C1-974CC197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8BD620-A472-4D5B-9D8F-2F5558EB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8E71EF-CEC6-4D31-B3C8-F956BA9E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84B3FC-A5AF-4CC1-A6A9-A56F96A5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0DA180-5491-4344-8F28-1C24C52C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1B8F7-C4AC-4083-8E60-175BC678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28526-58C1-4BF9-A291-865C2444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C0225D-49FB-4DD4-B1FF-81930CD5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AB2E4A-BFEB-4522-8431-45315789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FB6F27-1E3B-4790-825A-7C0FE182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A416-348F-4DF6-A281-C23F665B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EE47F-0839-448D-BBDB-82950E19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7E84B-0724-4882-B977-26DCB3FE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69C736-731C-4E92-849E-CEDE3360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2FE2C-1731-40C7-937E-C88317AA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28692-E67E-45CA-990C-608F006F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C23FF5-D897-4FFB-805F-DB54F0FC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C60F5D-D2D7-487C-985C-830ABA5A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0406E-E958-435D-B968-3B5DFC24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FEBC7D-8B58-45D0-A5A8-DD80D7F9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341DB1-9BB7-49C3-B607-DA81571C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8148-06F5-4755-80FE-9572F0A0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D2D8F1-17E9-42A5-880A-B273A79E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FC52D3-4EF8-4C97-A683-5BB12517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772F52-BD60-4F12-8F17-7E944B8A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256843-C341-4D05-9FB6-4AE8DA73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027E71-9FB7-44F3-A0A8-A723D1C4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B68290-5ACC-464E-92F3-9EF9F089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A23717-B619-47BF-B4C4-0B4AD430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1BDFC1-6ED7-43F7-AD80-3F41F41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DAD3BF-E407-4C90-9B8E-33700246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02DB2C-1824-48F1-BA84-46621545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7008E-0B6F-4F53-82B7-F4782B9F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DE43E2-4C71-4F4E-9FEB-109BAFD4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FCAF09-8C6A-4F78-BCDE-A650D9B6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23C17B-04BE-4FFD-B29E-E2D2F882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60A6-C2F9-4CA9-9432-FBEB5820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E9EC8-3FCA-403C-BCD4-2E084DB8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A1D86-8573-4B9A-819E-D9AAB4B1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7E3C-16C3-4761-81B2-A565599D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31E-12C6-4C36-BA14-5DA76890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54A50-66FF-4A5E-89EF-3646CD16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1CDE-4618-40F1-A4ED-C556CBA8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2E78-4F85-46BB-B716-11ACDD9D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16EA-17EC-4144-8F71-DE1C50DB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F060-F0DE-4472-A78F-E143A0E0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F0C3-AAD2-41F9-8750-E61F28C2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43453-A045-4C2E-8AF1-02A7178D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58B6C-FC85-4DAF-B133-F1E8A74F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D5721-FBDA-45C4-B1E4-41AAB863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4E91D-D51A-4E85-A402-58EE3EFA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3A3-7550-4A64-99D5-0F9BE191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B502-45EE-4979-A564-76A47A1B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038D3-2406-4AD4-9D39-B3972291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5E7E2-5CBA-4412-8A96-9A998DA1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6BEF3-F3DF-4268-B9A9-E602B835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7D5E-A22D-4136-AEBD-DC3E5CF4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6AAAF-959A-4204-BA06-976E6045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19628-271E-4383-B854-C1C81B31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C3D2-7F7D-4901-81E9-0735FEED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51301-8D4E-4AA4-B84D-B765599A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0BFA9-709C-463E-98D4-9860A49C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269-BF11-43E6-A573-6384366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C9E59-6501-4ED8-9F91-2FD7C30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104BD-08F6-4D98-A865-954A33EA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DB815-2FEA-4F2F-AC89-111F1D71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F7A7C-F505-4028-ADF6-42E9BFB3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51AE1-4BDA-4372-86A5-C4715EFE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2300-FEA6-411C-A7F3-3CFDB9C3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1D751-67F5-4ABE-890C-6DE19F3D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A0E08-038A-4CAB-BD68-19F979DE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44949-C9C1-4DBA-8A1F-E08E6FC0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A95B-58D9-45EF-A4CF-21F26B6E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835-5271-46F2-B6AF-AD19682A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FCFD1-ABF9-42A6-8481-62E2EC94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7B977-6EE9-4F62-A963-2275D895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C12CD-92EB-4BE7-A78F-A932BFD3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91C3E-664E-4BF2-BA5A-72116F45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C761B-AF52-4118-A81E-C2988ED8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73BF1-FF56-4A04-99E7-22FD8236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C372B-52F7-4E83-8106-E07A987D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1647B-0A27-4C03-851A-90DD6C9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BE999-2430-491D-9082-7F2BFCE1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A9F6-9CFA-4C83-A86F-FE9A9D14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2DB-A483-4BA1-B9F9-0ADD8607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F5018-F638-401C-8EF4-1644B969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EE33C-4D8D-4BDB-ABED-E260EA44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888EF-E32A-4B8F-AAC9-4C500A22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AEE44-0040-4756-AAA6-44C40C86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916CC-7719-4759-941D-758891B2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6DCCC-E949-44C4-9658-12F613C5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2C1B-3A09-4694-BBB1-98385667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C1926-435C-4E87-9239-72802227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BDE1E-0238-4F32-83A1-16C58DA4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95471-3903-4A40-B1AF-90E08FC4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C85-DD78-48C0-AD96-8939DD80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7070B-48A2-40A4-A1F0-3ABC62B9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5A8E3-F9B0-4FE0-A187-E17F6150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0CB42-F77B-4FB1-A924-736C6F3A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FE3A6-7620-44A8-8DF9-6AA0A2E4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D994D-F569-4604-8607-D403E6A8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D96B2-149D-44CB-8648-78666F40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36AE7-B3F2-473F-92B0-8C9BFFEC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84DD3-41AD-49D2-AF9B-3F88B7E0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654DD-0097-4576-83DB-8BADCA92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FB4F9-0063-47AB-992D-4F76172D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90F-6384-4D80-9731-691FC40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9D418-05C5-4C42-9618-CB9157C3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69DDA-489A-47EC-8646-7A7259DB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3DD60-9175-4F1D-87CD-4BA3E1E6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3F792-DB4B-43D5-A969-22D42ADF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6E3CC-C26C-420A-9790-398128FB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52006-4D3D-4508-BC9F-811C5D5B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17B09-6662-4E64-B635-4FBD4D28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0BD38-A0F9-4FD4-94B8-FA48C3CD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1FB58-8E3A-4A39-89C3-053FA939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0C9D8-9E2B-49C0-BFCE-60DD05A9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1BD0-19D4-4A28-8147-11219BA591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ED0F-C757-42EA-A743-E1A8628CD3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A510-476A-45C7-8BFD-9905A76E9F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3FD1-77AA-437C-83FF-9B6A8C5EAE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8A45-6A6F-4F2D-B049-3143285322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E227-71E4-4077-9133-8E0FACDD16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A436-4153-461D-B2E0-8946A532AD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3780-0251-4277-8CD2-821FA73EF9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0D46-83A6-4B8E-B40A-43A8882FFF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3583-3F76-48A3-9489-56B5F81962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C8DF-68B0-4029-A8D7-06290636B8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6069-F6D9-444F-A37E-EED9FB9273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022C-949A-4E1C-A3D6-14DA225100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6B29-D4FE-4008-A7D9-F7E307A8C6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1032-7473-4EAA-8D94-78B3880377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FB79-ED5B-464C-9F53-7D8643B661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4BA1-A5C2-4F12-A90E-E9A0DD9D4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9572-3738-4472-93E2-0CD48D33AB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6562-EB38-40C4-8C4F-DE5E407876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0228-BA26-4BDD-90F6-AA7B240AF6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0D41-5215-4547-8BB1-726A7F7159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3BAE-680E-4CCA-8678-20C9004986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9B3A-D7A4-43C8-8C91-2C8FAD4D66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0A0D-318F-48A5-A2FD-8BD5423E21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1D26-1D2C-442F-9612-DF4DFCDF1B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B20E-C568-4B05-AB59-6ED44BB031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7D99-2561-4552-B344-0212E1A0A8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FBA1-C89A-46C3-A8D5-DAA0E0A1C1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4844-5DFC-451E-90CE-474E8A4339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0C7F-D607-4204-B704-5A134EAC23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77BF-2363-49BF-9494-AE06AF3CC4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8C86-7CE2-4DF9-8347-1647FA520E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7985-25ED-4100-93B9-382DB339A0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79DA-A16B-44DE-B647-38C5DEC5D1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D1B6-B636-42B9-A252-2B5536DD25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939D-0EC2-4A7C-8D61-24FB4FBD2D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4273-32B9-402E-9761-1D4967C79A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E30F-9B4E-4198-9B9D-1A3F2DA47A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0F58-E063-4D00-BA4E-3564ADC6B9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093F-740C-45CD-B26E-330326B080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47840" y="3171960"/>
            <a:ext cx="464832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1595520"/>
            <a:ext cx="8553600" cy="3666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701720" y="2575080"/>
            <a:ext cx="638280" cy="252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924360" y="2565360"/>
            <a:ext cx="638280" cy="2523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046920" y="2565360"/>
            <a:ext cx="637920" cy="2523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8153280" y="2565360"/>
            <a:ext cx="638280" cy="2523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692360" y="2924280"/>
            <a:ext cx="637920" cy="2523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789360" y="2924280"/>
            <a:ext cx="638280" cy="252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031080" y="2924280"/>
            <a:ext cx="637920" cy="252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8163000" y="2924280"/>
            <a:ext cx="638280" cy="252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84360" y="3851280"/>
            <a:ext cx="1223640" cy="15937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692360" y="3554280"/>
            <a:ext cx="637920" cy="2527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843280" y="3860640"/>
            <a:ext cx="1512720" cy="15940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789360" y="3554280"/>
            <a:ext cx="638280" cy="2527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5076720" y="3870360"/>
            <a:ext cx="1513080" cy="15937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6031080" y="3573360"/>
            <a:ext cx="637920" cy="2523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7346880" y="3860640"/>
            <a:ext cx="1513080" cy="15940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8253360" y="3564000"/>
            <a:ext cx="63828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9410" descr=""/>
          <p:cNvPicPr/>
          <p:nvPr/>
        </p:nvPicPr>
        <p:blipFill>
          <a:blip r:embed="rId1"/>
          <a:stretch/>
        </p:blipFill>
        <p:spPr>
          <a:xfrm>
            <a:off x="142920" y="1585800"/>
            <a:ext cx="8858160" cy="3686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468360" y="1954080"/>
            <a:ext cx="2951280" cy="2527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468360" y="2214720"/>
            <a:ext cx="2951280" cy="2523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395280" y="2492280"/>
            <a:ext cx="2951280" cy="2523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395280" y="2762280"/>
            <a:ext cx="3816360" cy="2523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3816360" cy="2527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395280" y="4465800"/>
            <a:ext cx="3816360" cy="2523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395280" y="4734000"/>
            <a:ext cx="3816360" cy="2523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9"/>
          <a:stretch/>
        </p:blipFill>
        <p:spPr>
          <a:xfrm>
            <a:off x="395280" y="5013360"/>
            <a:ext cx="381636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8373" descr=""/>
          <p:cNvPicPr/>
          <p:nvPr/>
        </p:nvPicPr>
        <p:blipFill>
          <a:blip r:embed="rId1"/>
          <a:stretch/>
        </p:blipFill>
        <p:spPr>
          <a:xfrm>
            <a:off x="147600" y="1057320"/>
            <a:ext cx="8848800" cy="4743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755640" y="1925640"/>
            <a:ext cx="2879640" cy="2523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2879640" cy="252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684360" y="2482920"/>
            <a:ext cx="2879640" cy="2523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611280" y="2727360"/>
            <a:ext cx="4032000" cy="252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611280" y="3519360"/>
            <a:ext cx="4032000" cy="2527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611280" y="3798720"/>
            <a:ext cx="4032000" cy="252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8"/>
          <a:stretch/>
        </p:blipFill>
        <p:spPr>
          <a:xfrm>
            <a:off x="611280" y="4076640"/>
            <a:ext cx="4032000" cy="2523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9"/>
          <a:stretch/>
        </p:blipFill>
        <p:spPr>
          <a:xfrm>
            <a:off x="611280" y="4346640"/>
            <a:ext cx="4032000" cy="2523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0"/>
          <a:stretch/>
        </p:blipFill>
        <p:spPr>
          <a:xfrm>
            <a:off x="684360" y="4869000"/>
            <a:ext cx="4032000" cy="2523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1"/>
          <a:stretch/>
        </p:blipFill>
        <p:spPr>
          <a:xfrm>
            <a:off x="611280" y="5157720"/>
            <a:ext cx="4032000" cy="2523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2"/>
          <a:stretch/>
        </p:blipFill>
        <p:spPr>
          <a:xfrm>
            <a:off x="611280" y="5411880"/>
            <a:ext cx="6048360" cy="2523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3"/>
          <a:stretch/>
        </p:blipFill>
        <p:spPr>
          <a:xfrm>
            <a:off x="8388360" y="2421000"/>
            <a:ext cx="504720" cy="252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4"/>
          <a:stretch/>
        </p:blipFill>
        <p:spPr>
          <a:xfrm>
            <a:off x="8379000" y="2800440"/>
            <a:ext cx="504720" cy="252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5"/>
          <a:stretch/>
        </p:blipFill>
        <p:spPr>
          <a:xfrm>
            <a:off x="8379000" y="3213000"/>
            <a:ext cx="504720" cy="252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6"/>
          <a:stretch/>
        </p:blipFill>
        <p:spPr>
          <a:xfrm>
            <a:off x="8388360" y="3616200"/>
            <a:ext cx="504720" cy="252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7"/>
          <a:stretch/>
        </p:blipFill>
        <p:spPr>
          <a:xfrm>
            <a:off x="8379000" y="4005360"/>
            <a:ext cx="504720" cy="2523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8"/>
          <a:stretch/>
        </p:blipFill>
        <p:spPr>
          <a:xfrm>
            <a:off x="8379000" y="4394160"/>
            <a:ext cx="504720" cy="252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9"/>
          <a:stretch/>
        </p:blipFill>
        <p:spPr>
          <a:xfrm>
            <a:off x="8388360" y="4797360"/>
            <a:ext cx="504720" cy="2523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0"/>
          <a:stretch/>
        </p:blipFill>
        <p:spPr>
          <a:xfrm>
            <a:off x="8582040" y="5210280"/>
            <a:ext cx="50472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32:4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